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C195-F4AF-4EDA-A821-766601251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E522-C603-412B-BD1F-76742712A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AECD-1DA9-45A4-8A6A-6EC447A48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582B-F1AD-4DED-A587-6CBF117BA7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3DD0-CB7B-4F87-B4AE-C430B6B834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4D798-A21F-414E-82F9-50D426F86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5E555-680A-4947-A031-AE0D91031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80BDA-0A67-44AA-96BB-FC213BF37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4841-50C1-4C17-B8E0-5D537D608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6677-BBBC-4200-8BAC-8241750CE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F7D7B-CFCB-4647-9191-73ABFA1CF4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7926-9E74-4CB4-9D89-2F9ED5925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386640" indent="-3866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73280" indent="-38628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1159920" indent="-3866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1546560" indent="-3866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1933560" indent="-3866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1933560" indent="-3866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1933560" indent="-3866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10080" y="9252000"/>
            <a:ext cx="369720" cy="38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s-ES" sz="1800" spc="-1" strike="noStrike">
                <a:solidFill>
                  <a:srgbClr val="000000"/>
                </a:solidFill>
                <a:latin typeface="Helvetica Light"/>
              </a:defRPr>
            </a:lvl1pPr>
          </a:lstStyle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49E8FD-39BD-44BA-B55A-FC96C7A0AC0E}" type="slidenum">
              <a:rPr b="0" lang="es-E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5737320" y="1894680"/>
            <a:ext cx="1528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s-ES" sz="1800" spc="-1" strike="noStrike">
                <a:solidFill>
                  <a:srgbClr val="232323"/>
                </a:solidFill>
                <a:latin typeface="Helvetica Light"/>
              </a:rPr>
              <a:t>(aquí tu logo)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40" name="Picture 2" descr="pasted-image.png"/>
          <p:cNvPicPr/>
          <p:nvPr/>
        </p:nvPicPr>
        <p:blipFill>
          <a:blip r:embed="rId1"/>
          <a:stretch/>
        </p:blipFill>
        <p:spPr>
          <a:xfrm>
            <a:off x="4567320" y="4186080"/>
            <a:ext cx="3868560" cy="642960"/>
          </a:xfrm>
          <a:prstGeom prst="rect">
            <a:avLst/>
          </a:prstGeom>
          <a:ln w="0">
            <a:noFill/>
          </a:ln>
        </p:spPr>
      </p:pic>
      <p:sp>
        <p:nvSpPr>
          <p:cNvPr id="41" name="Line 3"/>
          <p:cNvSpPr/>
          <p:nvPr/>
        </p:nvSpPr>
        <p:spPr>
          <a:xfrm>
            <a:off x="6502320" y="2500200"/>
            <a:ext cx="0" cy="77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341960" y="5131440"/>
            <a:ext cx="431928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2200" spc="-1" strike="noStrike">
                <a:solidFill>
                  <a:srgbClr val="232323"/>
                </a:solidFill>
                <a:latin typeface="Arial"/>
                <a:ea typeface="Arial"/>
              </a:rPr>
              <a:t>MAPA DE CONTENIDOS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144880" y="7948080"/>
            <a:ext cx="87138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s-ES" sz="1600" spc="-1" strike="noStrike">
                <a:solidFill>
                  <a:srgbClr val="232323"/>
                </a:solidFill>
                <a:latin typeface="Helvetica Light"/>
              </a:rPr>
              <a:t>Esta es una plantilla para facilitar el trabajo de generación de un mapa de contenidos. En ningún caso incluye datos reales de InboundCycle o de su buyer persona.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1749600" y="954720"/>
            <a:ext cx="10669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1800" spc="-1" strike="noStrike">
                <a:solidFill>
                  <a:srgbClr val="232323"/>
                </a:solidFill>
                <a:latin typeface="Arial"/>
                <a:ea typeface="Arial"/>
              </a:rPr>
              <a:t>EJEMPLO DE </a:t>
            </a:r>
            <a:r>
              <a:rPr b="1" lang="es-ES_tradnl" sz="1800" spc="-1" strike="noStrike">
                <a:solidFill>
                  <a:srgbClr val="232323"/>
                </a:solidFill>
                <a:latin typeface="Arial"/>
                <a:ea typeface="Arial"/>
              </a:rPr>
              <a:t>UNA EMPRESA DE SOFTWARE DE GAMIFICACIÓN PARA RECURSOS HUMANOS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7613640" y="543600"/>
            <a:ext cx="48290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2200" spc="-1" strike="noStrike">
                <a:solidFill>
                  <a:srgbClr val="e94e1c"/>
                </a:solidFill>
                <a:latin typeface="Arial"/>
                <a:ea typeface="Arial"/>
              </a:rPr>
              <a:t>MAPA DE CONTENIDOS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46" name="Picture 3" descr="inboundcycle_lg.png"/>
          <p:cNvPicPr/>
          <p:nvPr/>
        </p:nvPicPr>
        <p:blipFill>
          <a:blip r:embed="rId1"/>
          <a:stretch/>
        </p:blipFill>
        <p:spPr>
          <a:xfrm>
            <a:off x="11783880" y="8574120"/>
            <a:ext cx="787680" cy="8348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9657720" y="9113400"/>
            <a:ext cx="19980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1400" spc="-1" strike="noStrike">
                <a:solidFill>
                  <a:srgbClr val="232323"/>
                </a:solidFill>
                <a:latin typeface="Arial"/>
                <a:ea typeface="Arial"/>
              </a:rPr>
              <a:t>INBOUNDCYCLE.COM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30360" y="1852560"/>
          <a:ext cx="11685600" cy="5983200"/>
        </p:xfrm>
        <a:graphic>
          <a:graphicData uri="http://schemas.openxmlformats.org/drawingml/2006/table">
            <a:tbl>
              <a:tblPr/>
              <a:tblGrid>
                <a:gridCol w="2921040"/>
                <a:gridCol w="2922480"/>
                <a:gridCol w="2921040"/>
                <a:gridCol w="2921040"/>
              </a:tblGrid>
              <a:tr h="749520"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606060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gridSpan="3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SES DEL PROCESO DE COMP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606060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IDERAC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VESTIGAC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CIS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YER PERSONA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ómo mejorar el ambiente lab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ómo gamificar una empre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Ventajas de la herramienta X para medir el desempeño de emple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ta Torn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Directora de RRH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Fomentar el esp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íritu de equipo en la empre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Qu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é es el método de gestión L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Demo de 1 mes de la herramienta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ne un equipo de trabajo desmotiv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10 consejos para mantener felices a los emple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Formas de medir el desempeño de los emple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Diagn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óstico gratuito de la adecuación de tu empresa al método L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“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s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 cómo mejorar el espíritu de equipo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114"/>
          <p:cNvSpPr/>
          <p:nvPr/>
        </p:nvSpPr>
        <p:spPr>
          <a:xfrm>
            <a:off x="4716360" y="8943840"/>
            <a:ext cx="357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s-ES" sz="1200" spc="-1" strike="noStrike">
                <a:solidFill>
                  <a:srgbClr val="232323"/>
                </a:solidFill>
                <a:latin typeface="Helvetica Light"/>
              </a:rPr>
              <a:t>(esto es un ejemplo, en las siguientes diapositivas encontrar</a:t>
            </a:r>
            <a:r>
              <a:rPr b="0" lang="es-ES_tradnl" sz="1200" spc="-1" strike="noStrike">
                <a:solidFill>
                  <a:srgbClr val="232323"/>
                </a:solidFill>
                <a:latin typeface="Helvetica Light"/>
              </a:rPr>
              <a:t>ás la plantilla en blanco</a:t>
            </a:r>
            <a:r>
              <a:rPr b="0" lang="es-ES" sz="1200" spc="-1" strike="noStrike">
                <a:solidFill>
                  <a:srgbClr val="232323"/>
                </a:solidFill>
                <a:latin typeface="Helvetica Ligh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Line 115"/>
          <p:cNvSpPr/>
          <p:nvPr/>
        </p:nvSpPr>
        <p:spPr>
          <a:xfrm flipV="1">
            <a:off x="6502320" y="829440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51" name="Imagen 3" descr=""/>
          <p:cNvPicPr/>
          <p:nvPr/>
        </p:nvPicPr>
        <p:blipFill>
          <a:blip r:embed="rId2"/>
          <a:stretch/>
        </p:blipFill>
        <p:spPr>
          <a:xfrm>
            <a:off x="1389240" y="1924200"/>
            <a:ext cx="130644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n 2" descr=""/>
          <p:cNvPicPr/>
          <p:nvPr/>
        </p:nvPicPr>
        <p:blipFill>
          <a:blip r:embed="rId1"/>
          <a:stretch/>
        </p:blipFill>
        <p:spPr>
          <a:xfrm>
            <a:off x="1389240" y="1924200"/>
            <a:ext cx="1334880" cy="13935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"/>
          <p:cNvSpPr/>
          <p:nvPr/>
        </p:nvSpPr>
        <p:spPr>
          <a:xfrm>
            <a:off x="6105600" y="954720"/>
            <a:ext cx="6313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1800" spc="-1" strike="noStrike">
                <a:solidFill>
                  <a:srgbClr val="232323"/>
                </a:solidFill>
                <a:latin typeface="Arial"/>
                <a:ea typeface="Arial"/>
              </a:rPr>
              <a:t>PLANTILLA EN BLANCO 1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7613640" y="543600"/>
            <a:ext cx="48290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2200" spc="-1" strike="noStrike">
                <a:solidFill>
                  <a:srgbClr val="e94e1c"/>
                </a:solidFill>
                <a:latin typeface="Arial"/>
                <a:ea typeface="Arial"/>
              </a:rPr>
              <a:t>MAPA DE CONTENIDOS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55" name="Picture 3" descr="inboundcycle_lg.png"/>
          <p:cNvPicPr/>
          <p:nvPr/>
        </p:nvPicPr>
        <p:blipFill>
          <a:blip r:embed="rId2"/>
          <a:stretch/>
        </p:blipFill>
        <p:spPr>
          <a:xfrm>
            <a:off x="11783880" y="8574120"/>
            <a:ext cx="787680" cy="834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9657720" y="9113400"/>
            <a:ext cx="19980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1400" spc="-1" strike="noStrike">
                <a:solidFill>
                  <a:srgbClr val="232323"/>
                </a:solidFill>
                <a:latin typeface="Arial"/>
                <a:ea typeface="Arial"/>
              </a:rPr>
              <a:t>INBOUNDCYCLE.COM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30360" y="1852560"/>
          <a:ext cx="11685600" cy="5983200"/>
        </p:xfrm>
        <a:graphic>
          <a:graphicData uri="http://schemas.openxmlformats.org/drawingml/2006/table">
            <a:tbl>
              <a:tblPr/>
              <a:tblGrid>
                <a:gridCol w="2921040"/>
                <a:gridCol w="2922480"/>
                <a:gridCol w="2921040"/>
                <a:gridCol w="2921040"/>
              </a:tblGrid>
              <a:tr h="749520"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606060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gridSpan="3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SES DEL PROCESO DE COMP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606060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IDERAC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VESTIGAC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CIS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YER PERSONA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ar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E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Proble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Frase que le def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" name="Rectangle 114"/>
          <p:cNvSpPr/>
          <p:nvPr/>
        </p:nvSpPr>
        <p:spPr>
          <a:xfrm>
            <a:off x="4716360" y="8852760"/>
            <a:ext cx="3571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s-ES" sz="1200" spc="-1" strike="noStrike">
                <a:solidFill>
                  <a:srgbClr val="232323"/>
                </a:solidFill>
                <a:latin typeface="Helvetica Light"/>
              </a:rPr>
              <a:t>(el texto remarcado en azul es el que debes sustituir con los datos de tu proyecto en concreto)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Line 115"/>
          <p:cNvSpPr/>
          <p:nvPr/>
        </p:nvSpPr>
        <p:spPr>
          <a:xfrm flipV="1">
            <a:off x="6502320" y="829440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n 2" descr=""/>
          <p:cNvPicPr/>
          <p:nvPr/>
        </p:nvPicPr>
        <p:blipFill>
          <a:blip r:embed="rId1"/>
          <a:stretch/>
        </p:blipFill>
        <p:spPr>
          <a:xfrm>
            <a:off x="1389240" y="1924200"/>
            <a:ext cx="1334880" cy="13935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6105600" y="954720"/>
            <a:ext cx="6313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1800" spc="-1" strike="noStrike">
                <a:solidFill>
                  <a:srgbClr val="232323"/>
                </a:solidFill>
                <a:latin typeface="Arial"/>
                <a:ea typeface="Arial"/>
              </a:rPr>
              <a:t>PLANTILLA EN BLANCO 2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613640" y="543600"/>
            <a:ext cx="48290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2200" spc="-1" strike="noStrike">
                <a:solidFill>
                  <a:srgbClr val="e94e1c"/>
                </a:solidFill>
                <a:latin typeface="Arial"/>
                <a:ea typeface="Arial"/>
              </a:rPr>
              <a:t>MAPA DE CONTENIDOS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63" name="Picture 3" descr="inboundcycle_lg.png"/>
          <p:cNvPicPr/>
          <p:nvPr/>
        </p:nvPicPr>
        <p:blipFill>
          <a:blip r:embed="rId2"/>
          <a:stretch/>
        </p:blipFill>
        <p:spPr>
          <a:xfrm>
            <a:off x="11783880" y="8574120"/>
            <a:ext cx="787680" cy="834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9657720" y="9113400"/>
            <a:ext cx="19980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1400" spc="-1" strike="noStrike">
                <a:solidFill>
                  <a:srgbClr val="232323"/>
                </a:solidFill>
                <a:latin typeface="Arial"/>
                <a:ea typeface="Arial"/>
              </a:rPr>
              <a:t>INBOUNDCYCLE.COM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30360" y="1852560"/>
          <a:ext cx="11685600" cy="5983200"/>
        </p:xfrm>
        <a:graphic>
          <a:graphicData uri="http://schemas.openxmlformats.org/drawingml/2006/table">
            <a:tbl>
              <a:tblPr/>
              <a:tblGrid>
                <a:gridCol w="2921040"/>
                <a:gridCol w="2922480"/>
                <a:gridCol w="2921040"/>
                <a:gridCol w="2921040"/>
              </a:tblGrid>
              <a:tr h="749520"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606060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gridSpan="3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SES DEL PROCESO DE COMP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606060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IDERAC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VESTIGAC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CIS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YER PERSONA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ar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E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Proble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Frase que le def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114"/>
          <p:cNvSpPr/>
          <p:nvPr/>
        </p:nvSpPr>
        <p:spPr>
          <a:xfrm>
            <a:off x="4716360" y="8852760"/>
            <a:ext cx="3571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s-ES" sz="1200" spc="-1" strike="noStrike">
                <a:solidFill>
                  <a:srgbClr val="232323"/>
                </a:solidFill>
                <a:latin typeface="Helvetica Light"/>
              </a:rPr>
              <a:t>(el texto remarcado en azul es el que debes sustituir con los datos de tu proyecto en concreto)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Line 115"/>
          <p:cNvSpPr/>
          <p:nvPr/>
        </p:nvSpPr>
        <p:spPr>
          <a:xfrm flipV="1">
            <a:off x="6502320" y="829440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n 2" descr=""/>
          <p:cNvPicPr/>
          <p:nvPr/>
        </p:nvPicPr>
        <p:blipFill>
          <a:blip r:embed="rId1"/>
          <a:stretch/>
        </p:blipFill>
        <p:spPr>
          <a:xfrm>
            <a:off x="1389240" y="1924200"/>
            <a:ext cx="1334880" cy="13935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6105600" y="954720"/>
            <a:ext cx="6313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1800" spc="-1" strike="noStrike">
                <a:solidFill>
                  <a:srgbClr val="232323"/>
                </a:solidFill>
                <a:latin typeface="Arial"/>
                <a:ea typeface="Arial"/>
              </a:rPr>
              <a:t>PLANTILLA EN BLANCO 3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7613640" y="543600"/>
            <a:ext cx="48290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2200" spc="-1" strike="noStrike">
                <a:solidFill>
                  <a:srgbClr val="e94e1c"/>
                </a:solidFill>
                <a:latin typeface="Arial"/>
                <a:ea typeface="Arial"/>
              </a:rPr>
              <a:t>MAPA DE CONTENIDOS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71" name="Picture 3" descr="inboundcycle_lg.png"/>
          <p:cNvPicPr/>
          <p:nvPr/>
        </p:nvPicPr>
        <p:blipFill>
          <a:blip r:embed="rId2"/>
          <a:stretch/>
        </p:blipFill>
        <p:spPr>
          <a:xfrm>
            <a:off x="11783880" y="8574120"/>
            <a:ext cx="787680" cy="834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9657720" y="9113400"/>
            <a:ext cx="19980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1400" spc="-1" strike="noStrike">
                <a:solidFill>
                  <a:srgbClr val="232323"/>
                </a:solidFill>
                <a:latin typeface="Arial"/>
                <a:ea typeface="Arial"/>
              </a:rPr>
              <a:t>INBOUNDCYCLE.COM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30360" y="1852560"/>
          <a:ext cx="11685600" cy="5983200"/>
        </p:xfrm>
        <a:graphic>
          <a:graphicData uri="http://schemas.openxmlformats.org/drawingml/2006/table">
            <a:tbl>
              <a:tblPr/>
              <a:tblGrid>
                <a:gridCol w="2921040"/>
                <a:gridCol w="2922480"/>
                <a:gridCol w="2921040"/>
                <a:gridCol w="2921040"/>
              </a:tblGrid>
              <a:tr h="749520"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606060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gridSpan="3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SES DEL PROCESO DE COMP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606060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IDERAC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VESTIGAC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CIS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YER PERSONA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ar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E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Proble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Frase que le def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4" name="Rectangle 114"/>
          <p:cNvSpPr/>
          <p:nvPr/>
        </p:nvSpPr>
        <p:spPr>
          <a:xfrm>
            <a:off x="4716360" y="8852760"/>
            <a:ext cx="3571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s-ES" sz="1200" spc="-1" strike="noStrike">
                <a:solidFill>
                  <a:srgbClr val="232323"/>
                </a:solidFill>
                <a:latin typeface="Helvetica Light"/>
              </a:rPr>
              <a:t>(el texto remarcado en azul es el que debes sustituir con los datos de tu proyecto en concreto)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Line 115"/>
          <p:cNvSpPr/>
          <p:nvPr/>
        </p:nvSpPr>
        <p:spPr>
          <a:xfrm flipV="1">
            <a:off x="6502320" y="829440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inboundcycle_lg.png"/>
          <p:cNvPicPr/>
          <p:nvPr/>
        </p:nvPicPr>
        <p:blipFill>
          <a:blip r:embed="rId1"/>
          <a:stretch/>
        </p:blipFill>
        <p:spPr>
          <a:xfrm>
            <a:off x="11783880" y="8574120"/>
            <a:ext cx="787680" cy="834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9657720" y="9113400"/>
            <a:ext cx="19980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1400" spc="-1" strike="noStrike">
                <a:solidFill>
                  <a:srgbClr val="232323"/>
                </a:solidFill>
                <a:latin typeface="Arial"/>
                <a:ea typeface="Arial"/>
              </a:rPr>
              <a:t>INBOUNDCYCLE.COM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78" name="Imagen 1" descr=""/>
          <p:cNvPicPr/>
          <p:nvPr/>
        </p:nvPicPr>
        <p:blipFill>
          <a:blip r:embed="rId2"/>
          <a:stretch/>
        </p:blipFill>
        <p:spPr>
          <a:xfrm>
            <a:off x="309600" y="3508200"/>
            <a:ext cx="3848040" cy="3784680"/>
          </a:xfrm>
          <a:prstGeom prst="rect">
            <a:avLst/>
          </a:prstGeom>
          <a:ln w="0">
            <a:noFill/>
          </a:ln>
        </p:spPr>
      </p:pic>
      <p:pic>
        <p:nvPicPr>
          <p:cNvPr id="79" name="Imagen 2" descr=""/>
          <p:cNvPicPr/>
          <p:nvPr/>
        </p:nvPicPr>
        <p:blipFill>
          <a:blip r:embed="rId3"/>
          <a:stretch/>
        </p:blipFill>
        <p:spPr>
          <a:xfrm>
            <a:off x="-6480" y="0"/>
            <a:ext cx="13011120" cy="25034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4702320" y="3494520"/>
            <a:ext cx="6084720" cy="27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s-ES" sz="1600" spc="-1" strike="noStrike">
                <a:solidFill>
                  <a:srgbClr val="232323"/>
                </a:solidFill>
                <a:latin typeface="Helvetica Light"/>
              </a:rPr>
              <a:t>Definir a tus diversos modelos de clientes, o </a:t>
            </a:r>
            <a:r>
              <a:rPr b="1" lang="es-ES" sz="1600" spc="-1" strike="noStrike">
                <a:solidFill>
                  <a:srgbClr val="232323"/>
                </a:solidFill>
                <a:latin typeface="Helvetica Light"/>
              </a:rPr>
              <a:t>crear tus buyer personas</a:t>
            </a:r>
            <a:r>
              <a:rPr b="0" lang="es-ES" sz="1600" spc="-1" strike="noStrike">
                <a:solidFill>
                  <a:srgbClr val="232323"/>
                </a:solidFill>
                <a:latin typeface="Helvetica Light"/>
              </a:rPr>
              <a:t>, puede resultar algo complejo si no posees los conocimientos ni la práctica necesaria.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s-ES" sz="1600" spc="-1" strike="noStrike">
                <a:solidFill>
                  <a:srgbClr val="232323"/>
                </a:solidFill>
                <a:latin typeface="Helvetica Light"/>
              </a:rPr>
              <a:t>Para facilitarte esta labor, hemos elaborado una </a:t>
            </a:r>
            <a:r>
              <a:rPr b="1" lang="es-ES" sz="1600" spc="-1" strike="noStrike">
                <a:solidFill>
                  <a:srgbClr val="232323"/>
                </a:solidFill>
                <a:latin typeface="Helvetica Light"/>
              </a:rPr>
              <a:t>plantilla que te ayudará a detallar cada una de las características de tus clientes ideales</a:t>
            </a:r>
            <a:r>
              <a:rPr b="0" lang="es-ES" sz="1600" spc="-1" strike="noStrike">
                <a:solidFill>
                  <a:srgbClr val="232323"/>
                </a:solidFill>
                <a:latin typeface="Helvetica Light"/>
              </a:rPr>
              <a:t>, con el fin de conocerlos a fondo y poder elaborar campañas de inbound marketing muchos más efectivas y personalizadas.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1600" spc="-1" strike="noStrike">
                <a:solidFill>
                  <a:srgbClr val="232323"/>
                </a:solidFill>
                <a:latin typeface="Helvetica Light"/>
              </a:rPr>
              <a:t>Desc</a:t>
            </a:r>
            <a:r>
              <a:rPr b="1" lang="es-ES_tradnl" sz="1600" spc="-1" strike="noStrike">
                <a:solidFill>
                  <a:srgbClr val="232323"/>
                </a:solidFill>
                <a:latin typeface="Helvetica Light"/>
              </a:rPr>
              <a:t>árgala en: http://hubs.ly/H04jvCQ0 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81" name="Imagen 4" descr=""/>
          <p:cNvPicPr/>
          <p:nvPr/>
        </p:nvPicPr>
        <p:blipFill>
          <a:blip r:embed="rId4"/>
          <a:stretch/>
        </p:blipFill>
        <p:spPr>
          <a:xfrm>
            <a:off x="4702320" y="6492960"/>
            <a:ext cx="3797280" cy="79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4449600" y="2934360"/>
            <a:ext cx="41040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3200" spc="-1" strike="noStrike">
                <a:solidFill>
                  <a:srgbClr val="e94e1c"/>
                </a:solidFill>
                <a:latin typeface="Arial"/>
                <a:ea typeface="Arial"/>
              </a:rPr>
              <a:t>¡MUCHA SUERTE!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259240" y="6900120"/>
            <a:ext cx="24843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s-ES" sz="1800" spc="-1" strike="noStrike">
                <a:solidFill>
                  <a:srgbClr val="232323"/>
                </a:solidFill>
                <a:latin typeface="Arial"/>
                <a:ea typeface="Arial"/>
              </a:rPr>
              <a:t>www.inboundcycle.com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449600" y="3759840"/>
            <a:ext cx="41040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3200" spc="-1" strike="noStrike">
                <a:solidFill>
                  <a:srgbClr val="e94e1c"/>
                </a:solidFill>
                <a:latin typeface="Arial"/>
                <a:ea typeface="Arial"/>
              </a:rPr>
              <a:t>:)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4341960" y="5214600"/>
            <a:ext cx="431928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s-ES" sz="2200" spc="-1" strike="noStrike">
                <a:solidFill>
                  <a:srgbClr val="232323"/>
                </a:solidFill>
                <a:latin typeface="Arial"/>
                <a:ea typeface="Arial"/>
              </a:rPr>
              <a:t>PERO, SI NECESITAS AYUDA…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2200" spc="-1" strike="noStrike">
                <a:solidFill>
                  <a:srgbClr val="232323"/>
                </a:solidFill>
                <a:latin typeface="Arial"/>
                <a:ea typeface="Arial"/>
              </a:rPr>
              <a:t>CONTACTA CON NOSOTROS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86" name="Picture 5" descr="pasted-image.png"/>
          <p:cNvPicPr/>
          <p:nvPr/>
        </p:nvPicPr>
        <p:blipFill>
          <a:blip r:embed="rId1"/>
          <a:stretch/>
        </p:blipFill>
        <p:spPr>
          <a:xfrm>
            <a:off x="4743360" y="6315120"/>
            <a:ext cx="3517920" cy="58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3T16:08:00Z</dcterms:created>
  <dc:creator>Usuario de Microsoft Office</dc:creator>
  <dc:description/>
  <dc:language>en-US</dc:language>
  <cp:lastModifiedBy>Usuario de Microsoft Office</cp:lastModifiedBy>
  <dcterms:modified xsi:type="dcterms:W3CDTF">2016-09-13T16:08:36Z</dcterms:modified>
  <cp:revision>1</cp:revision>
  <dc:subject/>
  <dc:title>Presentación de PowerPoint</dc:title>
</cp:coreProperties>
</file>